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6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4.jpeg" ContentType="image/jpeg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90A-A97B-46E5-9733-CFA906C5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4F6-FD68-48E5-884D-281B700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05E-22CC-4F2B-ACBC-7ACDBC35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C35-71BF-45B6-8BB7-0FCD39A4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1FD-05BE-44FD-86B8-91E253FD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7E9C-A289-4D83-ABBA-C2471806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4204-CEA5-41A9-9BDF-8A69B62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34A-198D-4259-AB4B-3F4CA0E4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CB58-81D2-4A16-B7AB-6540746B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B08-15E0-44D3-9E87-E14FA5D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BC4E-5C3A-453D-B420-5F275E40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B09-7E18-4EE9-BB33-F8A450B7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C5D-8DEE-4F2C-B247-60B0D324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F69D-0051-4BAC-A0A8-DAF26808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997-4745-446A-A945-5D82E65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673-65C6-4494-8F1F-D0FF5DBC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C799-646F-4BED-909D-C31D41A1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40EE-97F4-4B7C-AEBB-E0BC7F55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6F6F-AEED-4455-AD8B-1B409F9B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C3B7-FE4D-4727-950D-68700BC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829F-AB40-472B-AE39-7BB0C0ED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1B4BE-737E-4DD8-ADA7-9A4E6FAD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221-327A-4C6A-A96B-9DAC2F8E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E9A2-BDC2-447F-929C-54CBF20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4719-3504-4D4F-A6F9-643189E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4AAE-C9BB-4A11-9B64-99A871D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06D61-7F60-4F73-9624-1725530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5147-3E45-45A6-B340-E13DC72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7143-6090-40A0-935C-6B0766BF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2256-1FE9-41A0-95BB-BC572BD4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30D3-D1A7-4CAA-8633-52854360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AE40-653C-4402-984B-7896830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A4500-2A9A-4999-97F5-2D474E2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10C-E53A-4711-AB97-B324FFD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3BB6-4E8A-46DF-ABB8-EFB327F3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658E-F1E6-4D7E-AE84-618E2C83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5759-341F-49C2-B3E1-0A5A673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192A-9F71-4DA4-B5F6-18E7210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58F8-F8C5-484D-93FF-147143F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3F34-23FF-47FE-93FC-E770B0F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B4A7-3FC9-4D1D-9907-1BA7BD4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8D469-368D-43D0-A4FD-0061BBBB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160C-9CD4-4BF5-BFE1-265A5798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0A99-F04E-4DAD-90B1-E84F461A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ACB-EF81-43E9-8F18-7C93D1D7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C6B1-BA76-43F4-8377-E070CE1B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4EB1-2728-4773-BF4E-B0693648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3621D-956A-4C22-A536-5C70BE9B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96FB-973A-4E43-ADEF-E6B8E13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31CA0-EA6E-41BA-903E-78B4A82D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A0245-984E-46B0-AA30-05FEF69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91540-8067-4FB6-A0E6-678E90A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9DAAF-5294-4A8F-A122-9D54950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277A-CD21-48E3-AFBD-EE95323F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D81F7-2697-48E4-90FF-2B1606FC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D0C-877B-40BD-85DE-E0E49C51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9767C-5370-4ABB-A726-BF3A3410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D2A-DA00-413D-A19C-C40820A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66D-B087-4C12-816E-F961956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6B9-7FC7-43FC-9A98-C08F6AD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8C87-8A8D-4D7C-985B-39412D7855D0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28F-CFAA-4A57-A987-66AD3B2E68D9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5F3-056A-43FF-9EAC-934B19FCF9A9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9512-AD8A-4112-BACA-EA42C48981FE}" type="slidenum">
              <a:rPr b="0" lang="en-A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79E-AAC9-4BC0-B19D-8596B5787E83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781200" y="420840"/>
            <a:ext cx="8057880" cy="1481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4280" y="1857240"/>
            <a:ext cx="685800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Thru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Flap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Launc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eng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C:\Program Files\Microsoft Office\Media\CntCD1\ClipArt5\j0280308.wmf"/>
          <p:cNvPicPr/>
          <p:nvPr/>
        </p:nvPicPr>
        <p:blipFill>
          <a:blip r:embed="rId4"/>
          <a:stretch/>
        </p:blipFill>
        <p:spPr>
          <a:xfrm>
            <a:off x="500040" y="2643120"/>
            <a:ext cx="4500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3206880" y="268200"/>
            <a:ext cx="5089320" cy="1384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71360" y="3357720"/>
            <a:ext cx="778644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A system that detects radio waves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85840" y="550080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5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:\Program Files\Microsoft Office\Media\CntCD1\ClipArt5\j0280332.wmf"/>
          <p:cNvPicPr/>
          <p:nvPr/>
        </p:nvPicPr>
        <p:blipFill>
          <a:blip r:embed="rId2"/>
          <a:stretch/>
        </p:blipFill>
        <p:spPr>
          <a:xfrm>
            <a:off x="357120" y="500040"/>
            <a:ext cx="22147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8291520" cy="1481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4240" y="278568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Trebuchet MS"/>
              </a:rPr>
              <a:t>A force of propellers pushes the aircraft forward.</a:t>
            </a:r>
            <a:endParaRPr b="0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Program Files\Microsoft Office\Media\CntCD1\ClipArt3\j0232802.wmf"/>
          <p:cNvPicPr/>
          <p:nvPr/>
        </p:nvPicPr>
        <p:blipFill>
          <a:blip r:embed="rId2"/>
          <a:stretch/>
        </p:blipFill>
        <p:spPr>
          <a:xfrm>
            <a:off x="357120" y="357120"/>
            <a:ext cx="22240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Trebuchet MS"/>
              </a:rPr>
              <a:t>A narrow movable surface attached to the back end of an aircraft wing  that is used to create lift or drag.</a:t>
            </a:r>
            <a:endParaRPr b="0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Program Files\Microsoft Office\Media\CntCD1\ClipArt5\j0280311.wmf"/>
          <p:cNvPicPr/>
          <p:nvPr/>
        </p:nvPicPr>
        <p:blipFill>
          <a:blip r:embed="rId2"/>
          <a:stretch/>
        </p:blipFill>
        <p:spPr>
          <a:xfrm>
            <a:off x="4286160" y="5072040"/>
            <a:ext cx="2925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For the aircraft to takeoff or launch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C:\Program Files\Microsoft Office\Media\CntCD1\ClipArt1\j0212247.wmf"/>
          <p:cNvPicPr/>
          <p:nvPr/>
        </p:nvPicPr>
        <p:blipFill>
          <a:blip r:embed="rId2"/>
          <a:srcRect l="14515" t="0" r="0" b="0"/>
          <a:stretch/>
        </p:blipFill>
        <p:spPr>
          <a:xfrm>
            <a:off x="357120" y="1643040"/>
            <a:ext cx="2102040" cy="339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Program Files\Microsoft Office\Media\CntCD1\Animated\j0288894.gif"/>
          <p:cNvPicPr/>
          <p:nvPr/>
        </p:nvPicPr>
        <p:blipFill>
          <a:blip r:embed="rId3"/>
          <a:stretch/>
        </p:blipFill>
        <p:spPr>
          <a:xfrm>
            <a:off x="3286080" y="3929040"/>
            <a:ext cx="3000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The engine makes the aircraft fly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85840" y="564372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Program Files\Microsoft Office\Media\CntCD1\ClipArt3\j0233068.wmf"/>
          <p:cNvPicPr/>
          <p:nvPr/>
        </p:nvPicPr>
        <p:blipFill>
          <a:blip r:embed="rId2"/>
          <a:stretch/>
        </p:blipFill>
        <p:spPr>
          <a:xfrm>
            <a:off x="5857920" y="4214880"/>
            <a:ext cx="2979720" cy="134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Program Files\Microsoft Office\Media\CntCD1\ClipArt1\j0196170.wmf"/>
          <p:cNvPicPr/>
          <p:nvPr/>
        </p:nvPicPr>
        <p:blipFill>
          <a:blip r:embed="rId3"/>
          <a:stretch/>
        </p:blipFill>
        <p:spPr>
          <a:xfrm>
            <a:off x="285840" y="2857680"/>
            <a:ext cx="1785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3:47:50Z</dcterms:created>
  <dc:creator>Education</dc:creator>
  <dc:description/>
  <dc:language>en-US</dc:language>
  <cp:lastModifiedBy>Education</cp:lastModifiedBy>
  <dcterms:modified xsi:type="dcterms:W3CDTF">2009-07-24T02:45:53Z</dcterms:modified>
  <cp:revision>11</cp:revision>
  <dc:subject/>
  <dc:title>Slide 1</dc:title>
</cp:coreProperties>
</file>